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2.pct" ContentType="image/x-pict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85AC-7326-4121-9F4E-813B7574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093D-1F14-4ADB-AB0B-5977593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54A6-457B-455E-ABA0-3BAD2EEB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1BB6-9798-45CB-9EBF-01545AE8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C131-247B-4B8E-8702-AC087E9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C057-E7E9-4A0C-B95A-2A9DBEE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6ADA-12A8-44E2-A013-2743D251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7997-1717-4E14-9AE7-599C5210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55B2-17B6-4951-BEDA-8127FBA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4BAE-0E59-4A70-9FE7-747E676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AE03-AB1D-4123-8D3B-2C066D0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B3E4-7225-4242-9686-612C1B0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63400"/>
            <a:ext cx="250920" cy="6294600"/>
          </a:xfrm>
          <a:prstGeom prst="rect">
            <a:avLst/>
          </a:prstGeom>
          <a:solidFill>
            <a:srgbClr val="3b3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072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6844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40840" y="558720"/>
            <a:ext cx="9720" cy="629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150040" y="6669000"/>
            <a:ext cx="1006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993B-7D1A-4286-971A-6534990EA84A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0382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1" name=""/>
          <p:cNvSpPr/>
          <p:nvPr/>
        </p:nvSpPr>
        <p:spPr>
          <a:xfrm>
            <a:off x="963720" y="274464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lvl="1" marL="476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Second Outline Level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857160" algn="ctr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Third Outline Level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238400" algn="ctr"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366480"/>
            <a:ext cx="7360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Sans Unicode"/>
              </a:rPr>
              <a:t>Coordinator’s report</a:t>
            </a:r>
            <a:endParaRPr b="1" lang="en-US" sz="48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Huib van Langevelde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EXPReS board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Utrecht, 30 January, 2008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re we getting what we wan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0040" y="3943440"/>
            <a:ext cx="3554280" cy="2666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1440" y="764640"/>
            <a:ext cx="87822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Yes! An opportunity to position VLBI for the next decad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 way to offer new scientific capa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upgrade path for VLBI in the fu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Larger bandwidth, more bit per sample 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But not quite clear what the correlator for that should look lik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opportunity to position e-VLBI as a SKA pathfinder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 good collaboration with suppliers of Network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Dynamic lightpaths prove importa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Pushing the requirements for Network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computing at some poi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ing up expertis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momentum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a reput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FDEC-0882-4914-924D-CB4E8A30D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What’s nex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ere are 20 months left in EXPRe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f we extend the project for 6 month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an obvious EC call to continue our project in FP7 (yet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ybe a new call in late 2008 for 2009 sta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But EC themes seem different from our ambitions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urrently a unique collaboration of Observatories &amp; NREN’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We should aim to continue this, who would disagree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Maybe involve more supercomputing/GRID in the future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keep our focus on (Global) e-VLBI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like to get some NRAO antennas involved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Or should it be about e-LOFAR and SKA as well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Number of things to be addressed in future e-VLBI: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Light paths on demand, around the globe...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Buffering data at telescopes and correlator for robustnes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ke use of 10Gbps connectivity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Needs data acquisition system and correlator concept!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41C8-0FEF-42DD-A187-3D1116FAC8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Objective of this talk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o discuss the progress in EXPReS from board perspect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has EXPReS managed to demonstrate so far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are the concerns with respect to progress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C getting what they contracted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re we going where we want to be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nd think beyond the EXPReS projec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ture of the project, future of e-VLBI, future of our collabor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lation to other initiatives, telescop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 few words about JIVE....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Going through many personnel chang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 rot="840000">
            <a:off x="6729120" y="1464840"/>
            <a:ext cx="1814400" cy="76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y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ias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0A8E-4F27-4688-8F8A-46704C2FB6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JIVE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599760"/>
            <a:ext cx="859140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EXPReS secretary Diana van Dijk lef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transfer to AstroTech Hold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naged to arrange transition for the continuity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Yvonne Kool joined secretari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Now employed as senior secreta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ll time job at JIVE, EXPReS among her responsi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Zsolt Paragi will be Senior Support Scientis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ermanent position with JIV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fulfil e-VLBI scientist role for remainder of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Checked with EC that this is still “eligible”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JIVE staffing situation has been tigh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still have opening in management struc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oU renewal negotiated, JIVE for 5 more year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nding proposal for RadioNet of vital importance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CBEF-7968-4E6D-A874-C90524606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24560" y="4140360"/>
            <a:ext cx="4316400" cy="25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has demonstrated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8718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at e-VLBI can be done reliabl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nd at competitive sensitivity now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succesfully the old correlator and adopted the operational procedure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6 telescopes operational in Europe  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Operations favour dedicated lightpaths for robust performanc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tinkering with the protocols (UDP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And then we can get close to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an even do intercontinental VLBI in real-time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Overcame round-trip time problem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even complex politic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9880" y="1782720"/>
            <a:ext cx="4164120" cy="182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43880" y="0"/>
            <a:ext cx="118584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3C4F-1F89-4CF4-822E-E6D10B5334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demonstrated more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1368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Various ways to proceed beyond current VLBI system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tarted iBoB developme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Demonstrated working on distributed software correlator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nomy can be done with this network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new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spectral line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7000" y="3468600"/>
            <a:ext cx="3056040" cy="303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27560" y="655560"/>
            <a:ext cx="39164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54080" y="4619520"/>
            <a:ext cx="2143080" cy="198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C4F7-9D7D-4A5D-8F28-77FFFD36D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stronomy: spectral line science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33840" y="4030560"/>
            <a:ext cx="305928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11880" y="592200"/>
            <a:ext cx="2444760" cy="36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2360" y="2208240"/>
            <a:ext cx="4857840" cy="464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765000"/>
            <a:ext cx="582264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metry of circumstellar ma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e-VLBI to get better time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chnically OK, demonstration 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cience goals not so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A8BF-07E9-4FC4-99E9-F2CA7EF874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Keep the money flowing, yes we know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Continuity of staffing is always a wor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 sense that internal communication is not optimal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Not to be remedied by e-collaboration tools as the review suggested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Technical issu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ke the transition to Mk5B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-MERLIN correlator going to be a bottleneck for FABRIC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nnectivity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ally, really like to have Effelsberg in the Network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Yebes when it is availabl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Ventspils when it is ready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sts with South-America and Afrika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A0D4-0D82-4E94-98B6-06880C34A8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41840" y="3129120"/>
            <a:ext cx="4817880" cy="340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 (cont)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stronomy not yet the greatest succes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till fail to attract large numbers of user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Poor sensitivity compared to disk recording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Effelsberg missing, not at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providing longest baselin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Cannot yet offer China, Arecibo, South Africa operationally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Confused by changing polici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Policy now not very restrictive anymore, EVN board quite supportive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333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2968560"/>
            <a:ext cx="2776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ome frustration with inertia/conservatism of EVN 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think this is as fast forward as we can g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call for proposals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Deadline in 2 days, hard to predict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EC seems to await a “big discov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9C81-6278-4979-AD69-A225B925C3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Satisfying EC contrac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I think we are doing OK in year 2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But we noticed last year that the standard is quite hig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hink the PR activities with global connectivity helped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5408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we will do some mor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52960" y="2770200"/>
            <a:ext cx="3710160" cy="2282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368280" y="2130480"/>
            <a:ext cx="450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ust be seen to take their considerations se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Regular monitor tool to measure operational bandwidth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Closer liaison with network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Explore QoS tools to get bett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Use more collaborative tools established else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Keep closer control on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BB8D-E4F8-4FD4-9517-E48BC92967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cp:keywords/>
  <dc:language>en-US</dc:language>
  <cp:lastModifiedBy>Huib Jan van Langevelde</cp:lastModifiedBy>
  <dcterms:modified xsi:type="dcterms:W3CDTF">2008-01-29T09:24:24Z</dcterms:modified>
  <cp:revision>208</cp:revision>
  <dc:subject/>
  <dc:title>PowerPoint Presentation</dc:title>
</cp:coreProperties>
</file>